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0ED-34E3-494A-9B02-039F5407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009-50C0-454A-A29A-FA885B73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B2192-CCEC-4773-934E-54B52B92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27313-80FB-40F7-B5EE-8ACA0C64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2CAAB-374F-4534-81A8-94128876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C5A9D-A437-4F5F-B8A0-A8B079BA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3828D-07A2-4816-9324-B6C82212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D1170-07C8-496B-813A-F43C3CCF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6EF9E-398B-49AD-808F-11D4D67F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7692D-3486-49C2-A052-54EE1E82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61FD9-6BAE-4598-A6A0-EAD950EF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D804F-8538-40AD-9B94-A292E4A6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FCC-5E05-460E-AA57-1EA47CFA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569BC-E19E-47CE-BEC6-89AED92C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FB309-EDCE-4B2D-BEFD-A2199B8B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9A3F8-3CB0-467A-9A92-400251D7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6E97E-F56A-4E77-8C20-ABDF3C6F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0178E-842F-412F-918D-F1416223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8F229-DD67-4AC1-BC25-645BEF04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82CA0-57E4-4E84-BB49-788AEA31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01E0F-9431-4502-8F2B-277C7674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4A763-880D-4F34-B7D0-648357A1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AE7BC-C9F3-4958-9700-C8220007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EFF-B9DE-4582-908C-42125E3F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B78B3-7F56-4A55-B3B4-D86FCE62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37A2F-5A12-42AF-8D97-8B140EA4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769C2-B0B7-4681-BB8F-B6FE5CA8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6C526-DDBC-44CA-AC52-8E07914B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658EE-5F72-4BB7-8AAE-DE0E4B95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6E303-F8EB-4E62-889A-823E0D77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19C65-960B-4635-8C48-51A633E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2938A-6AC8-4AD0-BFBD-3EF3462A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0C5DB-BFD1-432A-9DCC-EA7F264B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17CA2-058A-4B81-B8D6-D28D3A37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3CE5-119E-4C87-8C65-C64652B5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62106-818E-4CBF-AD5A-5F0DC4F2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1FE6E-8A11-4CCF-8B6D-E2155FA3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34132-900A-4947-8638-FCFB2274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06247-7248-4A78-821C-79BF0D3B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E1CDA-88F7-424B-BC5D-1E481A6D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88A95-F409-4960-A579-04B62573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F620A-3899-4806-95F3-CB90C747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F57E4-9F48-4507-99F0-61BC3323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4B997-183D-47C1-9275-297CF4E0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B6F0E-1917-423C-92CF-4C90AB4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B9FF-132D-4A1C-B402-FB8242C5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C256E-4F29-4CB0-A384-D08FBA30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61680-F49C-42F9-8427-9FA5C62A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F9ED4-73C9-473D-B8DC-646E66DF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856C0-A805-4CDE-942F-AE67649C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BD10B-3042-46BE-862C-55110272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08B49-92E3-45C3-A3FA-5BBAD282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E5B6F-0631-4B0A-8B6B-C75384B4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F13CB-FC26-4C3F-BC37-1551D32A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207A1-E026-448C-9AA8-2EFBDBB1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A8A3B-AEAD-4A7F-B96B-C8D216A3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4116-375A-493A-BE66-176D6016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E6D03-B8A4-470D-95A3-CF86A3A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94A25-077C-4ADC-97BA-51BF750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8F86D-7866-4B07-8977-5D1534CE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D3B96-0B5B-46EF-9069-89FC3E6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F295D-8C9F-449D-AA9F-88263FE2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6C5BB-5CCF-4C01-9CEB-5C895F91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B51BD-3D11-4B61-B187-8BF63EE2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E263D-9FDD-496D-AD6B-AF067741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023C9-B4EF-4C14-8DEF-94538513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7039B-0187-4BC5-9209-BC981110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FBE4-7B84-4064-A6E3-4168143D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5E722-69F8-452F-8943-A8E5F7C7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36F87-5A4E-49C7-8079-CE9B103E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C4AFA-7364-4C47-BBAB-C548B2A4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CEA6F-6627-4C00-8FBE-A6124E8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8A4D5-EAE2-4A91-9A16-868DC6A9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F070D-B3B0-4636-9CD1-A9BA69E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89E87-724F-4B55-9D09-4D936E1F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59B5B-E38B-4AD1-9AEA-8DDD4940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906AE-C991-435D-AA5F-47B27F41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DA8A1-1073-4FF6-8D1C-84B2AD44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345E-5629-47D0-A0CA-B50FB126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2A66C-6094-4BBF-A902-40518B2C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4228D-6F53-4FAB-82D6-DA032257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863CA-4592-42E2-A9AB-55D35456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C1B1F-B8D4-476A-9100-3628C142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2815E-9DCF-49CD-B57A-08F81A95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1AABD-6C44-4C16-B5BF-022A8E16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FC1DA-47AE-48E5-8AE6-A500083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44118-EB7D-40C5-8DC5-5887D8C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B607B-910E-429D-9455-9A2E0277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A5227-9B6F-490F-8DC4-6C4A4773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363-0E1E-414B-B0D2-7470A4E5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48C3B-D6BB-4F6B-B6AB-9ABC9071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6780D-0157-413F-97DA-75B861BF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2FF63-79B5-42E4-8394-CF0B4DAD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CA872-2F80-4C04-ABE7-300C44E7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57438-9D46-4AD2-AD15-6D50DDDB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5A927-BF56-4500-8356-612F215B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6AF27-FB8E-4B83-98AA-CBDF7EF5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39CED-9D04-4E20-ACD2-7C81898C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FB2D6-227E-472C-B68B-80E67A3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D97C5-7B05-4BAA-B2B6-4EC19891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3C15-A04E-499A-BDC5-5DC751EA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07311-D186-44B4-8936-BAA7B2A4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3F36F-C583-48C2-9300-B5498D9C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E89E2B-A29D-4237-9E3C-8C032AF4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912B5-9931-4F01-90F3-AB4F41C7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50823-11C9-447D-B076-7E8B55BB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DDB01-10B1-4B32-8CB3-1EC3D6F6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997D1-B749-4C69-9331-F7AADC18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3E011-EF05-4D09-91F7-2DF8EC9A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45465-0903-499D-90DC-8C615B0B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4B98B-7BDF-445A-861D-8C14F24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EFF-612E-4E28-81C8-79FCBF8E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C2BB-71A9-4F36-9B26-D045B180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455D4-1630-483B-833F-C8CA954D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2AF30-91DD-4006-A8AF-F8D7BB32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2C1EB-C8E2-485E-B713-3518CBA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64A3D-BF41-4B4B-97DA-224119D5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3A1BF-59BE-48C4-A8EF-DB805116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B1FEB-FA75-4311-9E59-8E48C6D6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F6917-5C81-4820-8CFC-CF9D7849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CF4B2-FFDA-4B1E-A1A7-A66467B0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51BF9-B271-423F-8927-5EFA86CB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F3BDD2-5255-47E0-A71F-7CA5FBF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5018-5E7B-49CD-B325-8B94AF2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43D31-71BE-496B-9851-E73EB501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7E29F-572D-4361-9F63-4D8CA33D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234A6-13DA-4A2A-8AD5-AD9E8272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138CE-EB89-4443-8A08-98294029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D8EEA-92A0-4274-8018-BFB1C4C7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C4BA0F-5557-4473-BEF3-59A04938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86F01-50AB-45D2-B224-4A6F77BC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A407C-8FCD-46A7-955B-F86C4117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B9C1E-1D7C-4307-A04A-80BA977A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27CDA9-06C6-45F9-8B05-0DE79687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A249-CEA3-43CB-B10E-19776865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2A1C5-E611-4AA2-9CA8-D2BA35E2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DDF33-CFC2-4357-BDA4-E68533D8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ED841-A584-480D-A6FE-4106304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BDB77-5EC0-40EE-BB54-9701CEF6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5DCB8-287E-42EA-A73A-777393D8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B777A-3FCD-48DE-8E41-9A98637B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A3B7F-87DE-4179-9DA3-DD711073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425A5-3833-4402-84D4-E3056EBB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1011A-3E6D-42EB-A4E1-FAD9679C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3519D-3032-4742-A032-A70A3D0E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D135-322A-4791-A18C-E97BFBCD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2FEE1-EFBC-437F-AD14-D24BFE6D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D1E47-F288-4CB9-83C2-94E105FE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16925-1846-4C4B-97FC-ACEAD150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3FC3D0-123A-478A-815D-919CE1CD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0354FC-794D-428E-8562-3392B1D8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76A6C-FC1E-40A0-B390-0DE5B62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71C1D-7519-4974-A4C6-82DA7E7B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6A09E8-A59B-4C86-8332-497C9FFE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7D0FE3-E9C2-4DB4-8A5B-17831AA1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21AC1-34A0-439C-A74B-A7218BC4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A94F-3E3A-4878-AF7C-9C567A2D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FC629-F870-4898-B3D9-D6F54E4C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D1F76-2AF3-474B-91D2-56261239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EF492-D455-4077-9758-E0A81842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4BACD1-63FD-4761-A8B6-9F5020A6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C7996C-F3C5-4AFA-B8BD-B8111278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07E183-E3EA-4AAD-ABC6-44F317F7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926AF-E258-4A88-A77B-17F614BD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541805-C735-40E5-8BCE-8228567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C1D00-FD03-495B-8BF5-46918B6C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3E169-A4A1-4A9D-BAD8-B41370B4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9E55-0B6C-4FDB-BC28-A949B0E8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33C1F6-D0A9-474C-B438-A0A7FC1B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5E3902-792F-46F9-919C-B78F8559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7E022D-87BE-41FA-B962-3E62DE1A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AA2782-972D-4F97-A3AB-4C8CF978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35100E-D7AE-4107-89D9-C15D6C71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142410-CAF9-40C0-8A5E-E8B502FF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A0734-5E87-408E-A9F9-87AA208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133300-44ED-4347-929D-E692F333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9B1363-6BE1-4B57-81D6-8130F633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87BBC8-1AF4-4CDD-BA4A-5C51F09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55C0-A6DC-4E99-A5D5-C17E6652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81B465-8431-46E1-B12E-7EBA24BC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6E0942-D2E0-4C04-90FD-7B8AB06E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BE2FAE-8530-4351-A7A3-E2B966E7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709016-173D-4268-8818-68AE6C00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06B71B-F1B7-42BC-A528-E26F2F66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3D51FF-D323-45B2-A5D5-14C533F2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FF2820-6612-4912-B953-F17D4AC0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4789EA-D546-4049-B7E9-8379A452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3022C4-94E0-444B-A272-6D8462F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D6130E-BA44-4F7C-9127-3DE46828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E86A-B0B7-444F-A451-9053217E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AEF0F-4522-42DB-8B4F-19F49612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A90A00-1AB6-452A-88D8-6FCA1723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F78A53-93D6-4A7F-97D5-80885E79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16A5E1-5920-41ED-AB7E-1EF19E59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BCFA7E-15A0-4EAB-9568-BC7AD8EB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F31133-3CEB-4CBC-98D9-31A84FB1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3BF086-43B4-4290-9B98-F27E79F9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1F1A-81BB-473D-A4D1-E80A7A9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7210-790D-4D5A-B85B-6A4FCD34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976-2379-4A97-8828-18E198EF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8F1E-195E-4519-B25F-01D95DC2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358B-EE72-45CA-92DD-E57E609B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AA63-A13C-4200-97C1-C61EC651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1AF1-7D69-4E36-BE3A-288F6D1E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AB4C-A6DC-475D-B910-D2A2E938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7CC7-8E7E-4A60-B857-65B9D129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F95F-53D0-4C51-9020-B9D3C87A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242E-67EF-4BF2-9BC8-25B097DA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2748-CB2A-4DDD-B83B-BA040771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6106-D8D3-40E2-8B55-24831B06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9AB-BD96-439F-B8D7-2C30C849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3451-6E43-44BD-A9FF-F05C75F8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14A2-9343-4F48-AF8B-87312528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467A-618B-4436-BC24-19C3BE8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85B9-5743-4F23-95EC-121372C0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B8476-8EBF-4CBF-9BC9-4494DB0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1E66-DFF4-46DA-83FA-997ABC2B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5A29A-0E5E-4AF3-9F2C-4E63CF44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6190-2077-4B29-9242-5D96EA3A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BE34-7310-4C00-B5C4-81FDC383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F4AD0-F040-4D8E-B306-8427C80B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27B-6EE9-403C-9184-9CCDC0B5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5D87-8BE5-4626-A6DE-B732BE8C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3DAD-246F-4926-AB8F-1045099F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9A958-D81A-4AB5-B806-409F9DD7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DBD06-1CEB-4CD8-A935-CFF57BF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E53D-A671-4459-B979-B5A2CED0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D245-6EBC-42FC-A673-B24264B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6FAB1-FDF8-4E9C-89FB-858D5235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60C89-0A88-417A-AEA8-5AE13C3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8DF3-5185-4CF2-AF4B-78FB9EC9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CBF91-2CEC-43B1-8F48-D88F857C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252-2399-43E4-8B39-D2C40C87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840B-3D42-4457-B6A4-EA8E0F2F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F8AD-F826-461F-835E-1DDD80A2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7F65C-8F17-4B9D-96D2-C5866528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E447-BC5D-4478-BA5B-7530EC9A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FEA61-D9CA-4F9E-816B-4B0D3B63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7AD9B-305E-419E-AB7C-899A411C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4EA24-4B61-4159-B59E-43F86E1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B11D-89AC-4E2C-A1D5-6D09A380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E7EB-B63B-43A1-AD23-08B893A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53CC1-41AC-4ACA-AF2A-AABB990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AE3-9438-4666-B7FD-1250806B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F586B-138F-4CC5-9EDD-95148234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1828E-DE04-42D3-860A-113BED66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3E1C-6AF6-4BA8-9777-9CC094C6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A28B-2AD0-4094-8B85-F57742EA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C5BFA-3507-4A3B-BCC3-B741B519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8D62D-21BA-4A48-B176-915D0E7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57D57-C024-49E0-AAAA-6986EAA3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3B4E8-6A10-40FE-AC89-F626D066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96B1D-67E6-4477-BEEB-F9C74D9B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B412A-8264-438B-A2C4-7D28432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951-D018-4787-B0ED-E3E772C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3CD15-76B9-43C5-9E97-CA7849DF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C24C3-AEFB-446C-BB47-D0F2D6BE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EB402-0A75-4DA8-89A2-3BF59020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4ADF9-C306-49A4-A367-E92CB125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DBCF6-FCE3-4B28-86C7-E1CCBDE2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1ED4D-2DFD-4A18-A107-2E3FF951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CDBD4-B9FB-493E-96AF-E5E98D7A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A523E-3BB0-4B4A-8840-7648DFED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6EADC-1E31-4D97-B454-2187E40D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7C12-CCFE-474A-BE94-67C40276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6A0-7795-4234-9C95-BDB4B4D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8720-0ABB-4EBC-8541-A60A1F59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D166E-AF17-4EB8-B114-C2FA93DD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09221-D189-41B7-B105-A41328F3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0F671-71AA-4276-BA9A-B7971BA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7FA0C-A46B-4B4B-B7C2-556C2C64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6F42D-0809-4F7A-9926-77EC8547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534E2-196B-473E-BCFC-00A7D65C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5005E-75ED-445C-8E2F-6B6CE1FC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33574-03D2-4EEB-BA33-85ABED33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85BDF-61C7-4444-8C27-49C3671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080D-E5B3-436D-B766-719E15FC3F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BE7D-ECF9-4492-9314-081FDF98C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D857-6B7E-4113-A97B-6DE57FD6A2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53F0-8A5B-44F3-8CEA-0DEFC38486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E8EF-0AF2-45A4-95DB-4D11E807B7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C508-F2A9-4FCA-91E6-C9F55DE08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75DF-7DA6-4720-A3CA-5EBE8611D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42C-CEDC-4668-8415-8D86559DDE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A321-F0BB-40B2-9779-5D4FA181D6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E0C0-8698-43E8-BA60-6EE9519909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EAFD-3020-4053-8F04-323707895F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AE31-2252-4A2F-8FC4-4E5862B875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9E75-B4FD-4A64-859E-BF825554F7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21E7-F5B6-4C39-8565-29CB4E9B5F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53A3-0C97-41B3-9720-738AEAF822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BD72-B823-4AC7-B1BD-1489BC6249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66A-A162-42C9-B51D-401CFAB19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F54-A37B-4D24-8799-E7C994813D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12EC-2373-41F3-9DD3-B4FC988FC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7110-CB45-48E2-BBCE-2CCEB7F43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D51B-70BE-4369-865D-799ECBBC0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9883-1A15-4995-A7AB-F5BD3B577E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5F37-CD2B-435E-BFF1-4D337241E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F6EB-9CB9-4B90-B21D-A59B335CC9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DD1A-703C-4D0E-A1AE-620E4E122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2BD6-5512-4317-99BC-8E8B57A514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B712-311A-4E45-8758-9634075AFB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75A1-500E-460B-948F-461A3918E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ADB4-CC65-47EE-9694-38AFBBEF8A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9B98-D5F4-48C9-BC39-779AFC9E5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5F24-526A-4AD3-91D9-24DC0DBD3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8E1D-47FE-4907-BE61-8C1EAB64A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5A18-81AA-4F59-A32D-9143478C7A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6BAD-7D1A-4538-824D-30F7A0B4CF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DBD8-5F69-4793-A4B7-F6A78A6D58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EC9-0FC6-427B-99C0-7CCAB7D3F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F896-37D5-465F-8044-1E3386CA12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38AC-C8CC-4EE6-9A91-1250FBA9F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A735-4DFF-4E12-9B66-D9D8288D26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DB5F-C9EA-411C-BF9F-CABF3F243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6833-38B8-4BFD-92CA-3F6D84AF64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5795-2B0D-458A-8FCA-7F9FAC1352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6160" y="2776680"/>
            <a:ext cx="87501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38040" y="792000"/>
            <a:ext cx="8467920" cy="5886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555156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219640" y="416412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616800" y="4164120"/>
            <a:ext cx="16128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6300720" y="544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307120" y="5891040"/>
            <a:ext cx="16412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3276720" y="17002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6153" descr=""/>
          <p:cNvPicPr/>
          <p:nvPr/>
        </p:nvPicPr>
        <p:blipFill>
          <a:blip r:embed="rId9"/>
          <a:stretch/>
        </p:blipFill>
        <p:spPr>
          <a:xfrm>
            <a:off x="1158840" y="2319480"/>
            <a:ext cx="31240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438120" y="104760"/>
            <a:ext cx="8267760" cy="664848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7170" descr=""/>
          <p:cNvPicPr/>
          <p:nvPr/>
        </p:nvPicPr>
        <p:blipFill>
          <a:blip r:embed="rId2"/>
          <a:stretch/>
        </p:blipFill>
        <p:spPr>
          <a:xfrm>
            <a:off x="1549440" y="2550960"/>
            <a:ext cx="1942920" cy="2419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536400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3132000" y="1844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5148360" y="59198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71440" y="936720"/>
            <a:ext cx="8601120" cy="53244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2411280" y="5473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580000" y="2695680"/>
            <a:ext cx="2592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666720" y="1195560"/>
            <a:ext cx="7810560" cy="44668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076720" y="2060640"/>
            <a:ext cx="2951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600120" y="909720"/>
            <a:ext cx="7943760" cy="50385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2952720" cy="3168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348000" y="187308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76800" y="2492280"/>
            <a:ext cx="2952720" cy="3168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7192800" y="180180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895320" y="1114560"/>
            <a:ext cx="7353360" cy="46288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40720" cy="3384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3262320" y="1125360"/>
            <a:ext cx="1886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52280" y="628560"/>
            <a:ext cx="8839440" cy="6077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979640" y="426420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3203640" y="55450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3564000" y="599292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320760" y="803160"/>
            <a:ext cx="8696160" cy="5972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43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900000" y="4408560"/>
            <a:ext cx="439272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460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8:0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